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A35-270F-4B66-9EDB-87D4C8E9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ttle Engine That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2 handou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enacious Quot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My personal patience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ac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 together and sticking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w and the Pit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CF1-99F8-4A83-AEB9-3BF6BD3D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6A4-6E12-4A80-A683-119D22C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BEB-A068-4326-8B89-12F178B2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747-9C07-46B8-A53D-3B1B5D68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2D72-926A-4CE7-993C-3B07E0B4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A1ED-6D2E-4D53-9E1F-0D51C6FE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56B1-2760-4838-A44A-483E667F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8747-C8CC-4D5E-9997-A763F594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C722-BF92-4E91-A91D-68715A77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D645-8F35-4C00-9740-F9D60D72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FD4E-B895-4693-AA89-B90C11F3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D57-D1E9-4BD3-9F5F-A16C125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87CB-F4CD-48EA-8657-03E89D43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24FA-954D-418B-808F-A1E61FCB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0ECE-1F04-4006-B07A-B36D1B6A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1CC4-0A55-470D-9F67-176A93CD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ECBB-F611-4876-81E3-2B84DC34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FDD-0E24-4E51-A552-B5C25038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863-E412-4655-BB3D-E83A593B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75A-F6FF-418C-AB38-284A5D10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BF0-72C1-480D-9115-D66EA4D3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125-FA43-4B6F-8FB4-122D825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4BA-53B1-477A-9A37-74D73DB4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2EE-AB36-4E5A-BA72-A9120890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375F-B5CB-4068-B8F0-31303CB2BD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5A8-A304-4E73-AD11-A4FC7BB51D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erseveran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y is it sometimes difficult to b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the most difficult thing f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ou to wait fo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When you show patience in a situation, does it usually have a good res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 Little Engine That Coul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o you think the engine kept trying even though the task was difficul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What does it mean to have an “I Can” attitud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.  What usually happens when you think you can’t do something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.  What is something you have accomplished by believing that you could do it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5.  How can you encourage yourself when you’re given a tough situation or task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Complete 2 handout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Tenacious Quotes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-My personal patience rat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everanc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ing hard and not giving up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11" descr="j0292020"/>
          <p:cNvPicPr/>
          <p:nvPr/>
        </p:nvPicPr>
        <p:blipFill>
          <a:blip r:embed="rId1"/>
          <a:stretch/>
        </p:blipFill>
        <p:spPr>
          <a:xfrm>
            <a:off x="3770280" y="358128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stick wi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mething until it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nished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do not giv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up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severanc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erti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eadfas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lwart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stan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lentless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ogge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bstin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na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enacity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lding together and sticking to something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0285410"/>
          <p:cNvPicPr/>
          <p:nvPr/>
        </p:nvPicPr>
        <p:blipFill>
          <a:blip r:embed="rId1"/>
          <a:stretch/>
        </p:blipFill>
        <p:spPr>
          <a:xfrm>
            <a:off x="4343400" y="3276720"/>
            <a:ext cx="28195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he Crow and the Pitche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.  Why did the crow decide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ange its plan to get the water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Ques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2.  Are you a patient person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LEGION</cp:lastModifiedBy>
  <dcterms:modified xsi:type="dcterms:W3CDTF">2015-09-11T10:54:09Z</dcterms:modified>
  <cp:revision>13</cp:revision>
  <dc:subject/>
  <dc:title>Character Education Perseverance</dc:title>
</cp:coreProperties>
</file>